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0A6-6DE8-4B91-98BC-1DFF2338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5DA-5F47-45FF-8F4A-D3D53E1C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ACD-7FC1-497B-8930-77B43318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AEB-973B-4BB2-9D99-49F60DD9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145B-3278-4D04-916B-27CE62BE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6FC6-42B4-4BDC-8653-BD87763E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60BF-0C8B-4102-9272-5B887602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96D4-BA60-4029-A0DC-8DA5309F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CE2D-B767-421C-9FA9-E91C4648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DF8B-AA1B-4278-8150-F2DEE65B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17A5-C25C-4CEB-9BB4-114EFC65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9C5-CE48-4E00-A584-97049BA5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70E5-0A32-40A7-A519-346593AA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1E10-E597-4924-9F1D-34262C9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818C-9E25-4F0A-9176-151C656C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8B92-A999-4BE2-832D-0ED2C1F7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341E-D992-4B13-ABB3-A9E73105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E59-157D-48C9-8613-911E0026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4D0-2652-461C-A77A-4EDB9DBE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4C4-B990-4935-BE6D-207DEDF6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E0E-662E-470E-87DE-B8B423A0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A22-C9CC-40BC-BE62-ED071618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A85-6346-4A8D-98E5-B15D3A0C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884-9C42-4F37-B7FD-FBD7E024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2862-05FD-4FD4-ABD7-B8B5B40731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2B6C-09B4-47B8-8EE3-DD4B516223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ds.yahoo.com/_ylt=A0WTb_otqAlJ_bYAV5mJzbkF;_ylu=X3oDMTBxdnQ1aDV2BHBvcwMxMARzZWMDc3IEdnRpZANJOTk5Xzcz/SIG=1ia5vuumt/EXP=1225456045/**http%3A//images.search.yahoo.com/images/view%3Fback=http%253A%252F%252Fimages.search.yahoo.com%252Fsearch%252Fimages%253Fp%253DMap%252Bof%252BMozambique%2526fr%253Dyfp-t-501%2526ei%253Dutf-8%2526x%253Dwrt%26w=360%26h=461%26imgurl=mooreslore.corante.com%252Farchives%252Fimages%252Fmap.mozambique.maputo.jpg%26rurl=http%253A%252F%252Fmooreslore.corante.com%252Farchives%252Fimages%253FN%253DD%26size=71.1kB%26name=map.mozambique.maputo.jpg%26p=Map%2Bof%2BMozambique%26type=JPG%26oid=83b4665a43beeda4%26no=10%26tt=4,603%26sigr=11hrm38d8%26sigi=1208l1eve%26sigb=12sepv1vh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en.wikipedia.org/" TargetMode="External"/><Relationship Id="rId3" Type="http://schemas.openxmlformats.org/officeDocument/2006/relationships/hyperlink" Target="http://www.state.gov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Bauhaus 93"/>
              </a:rPr>
              <a:t>Mozamb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uhaus 93"/>
              </a:rPr>
              <a:t>By: Mary Beth Ber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11480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auhaus 93"/>
              </a:rPr>
              <a:t>Mozambiq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Mozambique is a country in southeastern Africa bordered by the Indian Ocean to the East. Some of it’s relative locations are Tanzania, Malawi, Zambia, Zimbabwe, Swaziland, and South Af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ritannic Bold"/>
              </a:rPr>
              <a:t>Relative Locations Ma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Map of Mozambique"/>
          <p:cNvPicPr/>
          <p:nvPr/>
        </p:nvPicPr>
        <p:blipFill>
          <a:blip r:embed="rId1"/>
          <a:stretch/>
        </p:blipFill>
        <p:spPr>
          <a:xfrm>
            <a:off x="5410080" y="1905120"/>
            <a:ext cx="259092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1981080"/>
            <a:ext cx="2362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ritannic Bold"/>
              </a:rPr>
              <a:t>Major Historical Ev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On February 2, 2005 Armando Guebuza was inaugurated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Mozambique got independence from Portugal on June 25, 1975 after being controlled by them for almost five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Mozambique was colonized by Portugal in 1505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ritannic Bold"/>
              </a:rPr>
              <a:t>Mozambique Quick Fa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Language: Portugu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Population: 21,284,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Religion: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Capital: Map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Independence Day: June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auhaus 93"/>
              </a:rPr>
              <a:t>Cultural Activi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uhaus 93"/>
              </a:rPr>
              <a:t>The people in Mozambique do many cultural activities like performing a traditional dance at cultural exhi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auhaus 93"/>
              </a:rPr>
              <a:t>The people doing there traditional cultural 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auhaus 93"/>
              </a:rPr>
              <a:t>Future Of Mozambiq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uhaus 93"/>
              </a:rPr>
              <a:t>I think that the people of Mozambique will go on to be a successful country because they have a very strong leader that will help them make the right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52680" y="4191120"/>
            <a:ext cx="44960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auhaus 93"/>
              </a:rPr>
              <a:t>Bibliograph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Bauhaus 93"/>
                <a:hlinkClick r:id="rId1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Bauhaus 93"/>
                <a:hlinkClick r:id="rId2"/>
              </a:rPr>
              <a:t>http://en.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Bauhaus 93"/>
                <a:hlinkClick r:id="rId3"/>
              </a:rPr>
              <a:t>www.state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2:34:12Z</dcterms:created>
  <dc:creator>maryberry</dc:creator>
  <dc:description/>
  <dc:language>en-US</dc:language>
  <cp:lastModifiedBy>maryberry</cp:lastModifiedBy>
  <dcterms:modified xsi:type="dcterms:W3CDTF">2008-10-31T12:43:20Z</dcterms:modified>
  <cp:revision>5</cp:revision>
  <dc:subject/>
  <dc:title>Mozambique</dc:title>
</cp:coreProperties>
</file>